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A146-53AD-4932-AA21-BFB282DED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BE52-9F98-4206-9CA6-8DA74A89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33E6-2163-456F-AF9D-A81E1244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3AFC-92C7-4CA8-BCD1-852B382F4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1AEE-F5C5-4A9A-8062-D5F8A1360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3547-99AC-4A33-A777-E420756F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B6EE-A540-4224-9DF8-1E82D0E3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9D73-CBE0-4BAD-9514-B7D4E8E0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CB03-E195-43B7-8389-3DCAD52C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BC0B-49CB-4C64-B314-B7604C87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0C31-6262-42CE-A3B6-52CE2C7E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A9CB-3EFB-4466-86F9-AEF3DEB2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06AD-0E5F-4BE8-BDE7-20B02386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9248-175B-49BC-8F01-CD2E54EA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D17B-A3B4-45C3-86F7-341144DB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F2AA-36B6-4074-A094-B1A7BA49F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DE0D-E6BC-436E-9BB6-D82D27290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DD32-1685-4647-AB91-8ABC3FB0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9C70-8B5E-423C-962A-ACF4F126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0CEE-D841-4079-A80C-9F03E26E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9237-0615-4CBD-A0FB-6A07DA02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5EBE-8A4D-4711-883A-79D66628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8273-F820-464D-B074-1C654909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7EEE-887F-4445-95EB-05C40FC2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3C5E-EAB1-423B-ABE1-09EA3AAB76D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B051-0614-411B-A29E-94E545F74982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animationfactory.com/en/search/close-up.html?&amp;oid=4970430&amp;s=1&amp;sc=1&amp;st=488&amp;category_id=E17&amp;spage=1&amp;hoid=db10533a1a83052a6ec8854f1edd4217" TargetMode="Externa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603360" y="-6480"/>
            <a:ext cx="7888320" cy="5943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 rot="16200000">
            <a:off x="7067520" y="3905280"/>
            <a:ext cx="4114800" cy="17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d050"/>
                </a:solidFill>
                <a:latin typeface="Book Antiqua"/>
              </a:rPr>
              <a:t>By:  Kyle Burkey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4" name="Picture 4" descr="Green Pencil Drawing Animated Clipar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083 0.17222 L 0.62916 0.58334 E">
                                      <p:cBhvr>
                                        <p:cTn id="6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2d050"/>
                </a:solidFill>
                <a:latin typeface="Book Antiqua"/>
              </a:rPr>
              <a:t>Mathematic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2514600" y="914400"/>
            <a:ext cx="6629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mathematical skills and concepts I learned and applied through my project were writing formulas to find the total of my grocery shopping or college planning expenses. But before all the that I knew is that I had to use all I knew about this so all I could do was my best and I would soon figure out how to do i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4" descr="Flashing Add Symbol Animated Clipart"/>
          <p:cNvPicPr/>
          <p:nvPr/>
        </p:nvPicPr>
        <p:blipFill>
          <a:blip r:embed="rId1"/>
          <a:stretch/>
        </p:blipFill>
        <p:spPr>
          <a:xfrm>
            <a:off x="6324480" y="40384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923 0.06274 C -0.31076 0.04815 -0.53159 0.0338 -0.5427 -0.02592 C -0.55416 -0.08611 -0.15538 -0.19583 -0.15711 -0.29791 C -0.1592 -0.39976 -0.46562 -0.69444 -0.55486 -0.63703 C -0.64392 -0.57916 -0.70052 0.01436 -0.69218 0.04815 C -0.6842 0.08334 -0.56701 -0.38194 -0.5059 -0.43078 C -0.44479 -0.48009 -0.29062 -0.31527 -0.32534 -0.24629 C -0.35989 -0.17731 -0.53628 -0.09722 -0.7125 -0.01689 E">
                                      <p:cBhvr>
                                        <p:cTn id="1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2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2d050"/>
                </a:solidFill>
                <a:latin typeface="Book Antiqua"/>
              </a:rPr>
              <a:t>Technolog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4648320" y="838080"/>
            <a:ext cx="4495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The new technology things I learned was how to make a formula in excel and how to use excel which at the beginning I had no idea how to u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4" descr="File Server On Network Animated Clipart"/>
          <p:cNvPicPr/>
          <p:nvPr/>
        </p:nvPicPr>
        <p:blipFill>
          <a:blip r:embed="rId1"/>
          <a:stretch/>
        </p:blipFill>
        <p:spPr>
          <a:xfrm>
            <a:off x="0" y="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8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Affective Develop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1295280" y="838080"/>
            <a:ext cx="784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 learned about my self is that I like doing buying stuff that I might actually buy in life and it is so much fun and I like learning about things in the real world that I will have to deal with and know I’m going to do better in life with buying stuff for college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Decision Ma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0" y="83808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I made all my decision’s was what I thought I would need and what I wouldn’t need and what I just wanted because I had unlimited money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48:33Z</dcterms:created>
  <dc:creator>ITSUser</dc:creator>
  <dc:description/>
  <dc:language>en-US</dc:language>
  <cp:lastModifiedBy>ITSUser</cp:lastModifiedBy>
  <dcterms:modified xsi:type="dcterms:W3CDTF">2010-02-17T21:24:06Z</dcterms:modified>
  <cp:revision>7</cp:revision>
  <dc:subject/>
  <dc:title>College Planning Project Reflection</dc:title>
</cp:coreProperties>
</file>